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044A-FB16-4DEB-9E08-F9DBB2FBF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3E1D-5E6D-4F24-9B38-4ED942257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399B-9C65-47A8-949E-A0ABD6CDB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7A3B-F764-47DB-B874-01B1B100D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1E500-9588-4998-98CD-206D7F2D4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5CCE9-75AF-403B-A904-76B62AFD9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9A621-C32E-4157-9051-BFC1BD6FD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045E9-24EB-46DB-9837-8322E410C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9DE70-F3F0-4DB9-8D00-3C6D75237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8D6EF-C837-486D-AD0E-819382B71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964CB-D939-42A7-AC5A-E594DD36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5DF9-47D6-47B2-9B71-305E06AB6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C59A1-C057-4FB2-89FF-15CA3443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E8C6B-394D-4C6D-9E04-AB100548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A85CD-1C6B-44DE-92A0-34AFAA10E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D4960-904D-4F46-BADB-F6F716219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5E494-5D31-491F-8186-08F3ADC4A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2975-6100-488A-AF6B-3AC969252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0909-046C-4ABD-B18E-DB9FA45C4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9884-47BB-4607-8509-7836D31DD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2885-9732-427E-AF68-61D73D343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0BC0-155B-42C8-91A0-DDB8BE87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DF83-DE84-4E01-BD99-A39D972E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5BA5-D72D-434C-A390-7571C865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F6DE3-EC2A-4A20-B42E-8AFE71DD9853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B2605-50B7-4D19-92BC-692F6DD8021A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55640" y="191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ffffff"/>
                </a:solidFill>
                <a:latin typeface="Arial"/>
              </a:rPr>
              <a:t>FRUMOSU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1549440" y="4059000"/>
            <a:ext cx="6045120" cy="6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cc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ffcc00"/>
                </a:solidFill>
                <a:latin typeface="Arial"/>
              </a:rPr>
              <a:t>Manualul de Estetică, clasa a XII-a,</a:t>
            </a:r>
            <a:r>
              <a:rPr b="0" lang="ro-RO" sz="1000" spc="-1" strike="noStrike">
                <a:solidFill>
                  <a:srgbClr val="ffcc00"/>
                </a:solidFill>
                <a:latin typeface="Arial"/>
              </a:rPr>
              <a:t> Adrian Iorgulescu, Doina Pungă, Gheorghe Stroia)</a:t>
            </a:r>
            <a:endParaRPr b="0" lang="en-US" sz="1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cc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cc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Calibri"/>
              </a:rPr>
              <a:t>Categorie fundamentală a esteticii, frumosul reflectă însuşiril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proprietă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le naturii, vi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i social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ale cre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ilor umane capabile să trezească în personalitatea valorificatoare stări de satisfac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e, emo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bucurie estetică, precum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aptitudinil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înzestrările specifice ale fii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i ome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i generatoare a sentimentelor de plăcer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admir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e. Frumosul oglindeşte deopotrivă ordinea lumii exterioare, obiective şi armonia trăirilor interioare, subiective, sociabilitatea şi individualitatea omului, îmbinând planul senzorialităţii afective cu cel al raţionalităţii lucide în efortul de a obţine o imagine globală unitară asupra condiţiei uman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 plan european, primele reflecţii asupra frumosului s-au ivit în orizontul spiritual elen. Întrebându-se „ce e frumosu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”, Platon îl aprecia ca pe un lucru folositor, potrivit scopului său, făcut cu meşteşug şi care produce o plăcere recepţionată cu ajutorul văzului şi auzului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ntru el, ca şi pentru mulţi alţii, nu toate plăcerile sunt estetice, ci numai acelea care ţin de simţurile superioare, singurele apte să asigure o stare agreabilă, de desfătare spirituală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u trebuie să năzuieşti către orice plăcere, spunea Democrit, ci numai către plăcerea pentru ceea ce este frumos”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şi de natură ideală, abstractă, plasat ca arhetip universal în zonele ideii pure, frumosul, afirma Platon, are strânse contacte cu binele, „identificându-se pretutindeni cu măsura şi proporţia”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53964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cc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cc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ffcc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5292720" y="1773360"/>
            <a:ext cx="18003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odurile de existenţă ale frumosului. […]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ff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rumosul natural, asigurat de existenţa elementelor primordiale: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ecanice;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izice;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himice;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biologice. […]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ff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rumosul uman, constituit din: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rumuseţea corpului omenesc, alcătuită în principal din elemente naturale, native, dar şi dintr-o îndelungată şlefuire civilizatoare;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rumuseţea sufletească, rezultat aproape integral al eforturilor de înnobilare umană;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rumuseţea etică a vastelor relaţii dintre oameni [...];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rumuseţea ambientală a locului şi rezultatele muncii omeneşti. […]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ff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rumosul artistic. Existenţa sa este asigurată […] de: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courile reflectării frumuseţii din realitate; […]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apacităţile demiurgice ale omului de artă care, pornind de la lumea reală, făureşte o realitate nouă.[…]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539640" y="26028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cc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cc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s12b2</cp:lastModifiedBy>
  <dcterms:modified xsi:type="dcterms:W3CDTF">2012-06-19T11:31:36Z</dcterms:modified>
  <cp:revision>38</cp:revision>
  <dc:subject/>
  <dc:title>SALARIUL</dc:title>
</cp:coreProperties>
</file>